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0661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6920" y="4042800"/>
            <a:ext cx="80661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692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6044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4280" y="148428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81640" y="148428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6920" y="404280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4280" y="404280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81640" y="404280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3640" y="27468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2692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6044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26920" y="4042800"/>
            <a:ext cx="80661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0661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26920" y="4042800"/>
            <a:ext cx="80661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2692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6044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54280" y="148428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81640" y="148428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26920" y="404280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54280" y="404280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81640" y="404280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23640" y="27468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692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6044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6920" y="4042800"/>
            <a:ext cx="80661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1547640" y="0"/>
            <a:ext cx="7596360" cy="68580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5"/>
          <p:cNvSpPr/>
          <p:nvPr/>
        </p:nvSpPr>
        <p:spPr>
          <a:xfrm>
            <a:off x="0" y="0"/>
            <a:ext cx="1547640" cy="6858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3"/>
          <p:cNvSpPr/>
          <p:nvPr/>
        </p:nvSpPr>
        <p:spPr>
          <a:xfrm>
            <a:off x="270000" y="260280"/>
            <a:ext cx="8694720" cy="1008000"/>
          </a:xfrm>
          <a:prstGeom prst="rect">
            <a:avLst/>
          </a:prstGeom>
          <a:solidFill>
            <a:srgbClr val="72a1d0"/>
          </a:solidFill>
          <a:ln w="19080">
            <a:solidFill>
              <a:srgbClr val="f3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4"/>
          <p:cNvSpPr/>
          <p:nvPr/>
        </p:nvSpPr>
        <p:spPr>
          <a:xfrm>
            <a:off x="755640" y="1390680"/>
            <a:ext cx="82090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7" descr="GTKTBB"/>
          <p:cNvPicPr/>
          <p:nvPr/>
        </p:nvPicPr>
        <p:blipFill>
          <a:blip r:embed="rId2"/>
          <a:stretch/>
        </p:blipFill>
        <p:spPr>
          <a:xfrm>
            <a:off x="92160" y="5516640"/>
            <a:ext cx="1368360" cy="1271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e7"/>
            </a:outerShdw>
          </a:effectLst>
        </p:spPr>
      </p:pic>
      <p:sp>
        <p:nvSpPr>
          <p:cNvPr id="5" name="Text Box 27"/>
          <p:cNvSpPr/>
          <p:nvPr/>
        </p:nvSpPr>
        <p:spPr>
          <a:xfrm>
            <a:off x="1547640" y="6453360"/>
            <a:ext cx="3672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strella"/>
              </a:rPr>
              <a:t>The Story of the B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9800" indent="-37980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1" marL="906840" indent="-37584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2" marL="12492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3" marL="159192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4" marL="19350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5" marL="19350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6" marL="19350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1763640" cy="6858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GTKTBB"/>
          <p:cNvPicPr/>
          <p:nvPr/>
        </p:nvPicPr>
        <p:blipFill>
          <a:blip r:embed="rId2"/>
          <a:stretch/>
        </p:blipFill>
        <p:spPr>
          <a:xfrm>
            <a:off x="250920" y="3500280"/>
            <a:ext cx="3097080" cy="2878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92929"/>
            </a:outerShdw>
          </a:effectLst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9800" indent="-37980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1" marL="906840" indent="-37584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2" marL="12492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3" marL="159192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4" marL="19350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5" marL="19350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6" marL="19350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1906560" y="260280"/>
            <a:ext cx="676908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3f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3366"/>
                </a:solidFill>
                <a:latin typeface="SenateCondensed"/>
              </a:rPr>
              <a:t>The Story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3366"/>
                </a:solidFill>
                <a:latin typeface="SenateCondensed"/>
              </a:rPr>
              <a:t>of the Bibl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4824360" y="6237360"/>
            <a:ext cx="43196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3f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Minstrella"/>
              </a:rPr>
              <a:t>Sponsored by the Christadelph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Holy%20Bible"/>
          <p:cNvPicPr/>
          <p:nvPr/>
        </p:nvPicPr>
        <p:blipFill>
          <a:blip r:embed="rId1"/>
          <a:stretch/>
        </p:blipFill>
        <p:spPr>
          <a:xfrm>
            <a:off x="4932360" y="3500280"/>
            <a:ext cx="3994200" cy="2676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1932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A the time of Christ's birth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03280" y="1483920"/>
            <a:ext cx="7416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3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a)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 King Herod a non-Jew on the throne.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393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b)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 Rome in control of Israel.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393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c)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 Everyone spoke Greek (as well as Aramaic).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393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d)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 Many Greek beliefs &amp; customs accepted by the Jews.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393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e)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 A corrupt priesthood bent on political intrigue.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Some Bible Words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92360" y="1484280"/>
            <a:ext cx="720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priest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-452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repent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-452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righteousness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-452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justification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-452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sanctification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-452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holy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-452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atonement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55480" y="274680"/>
            <a:ext cx="833760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Next Week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16360" y="1484280"/>
            <a:ext cx="237636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3258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SenateCondensed"/>
              </a:rPr>
              <a:t>Jesus </a:t>
            </a:r>
            <a:endParaRPr b="0" lang="en-US" sz="8000" spc="-1" strike="noStrike">
              <a:solidFill>
                <a:srgbClr val="000000"/>
              </a:solidFill>
              <a:latin typeface="SenateCondensed"/>
            </a:endParaRPr>
          </a:p>
          <a:p>
            <a:pPr marL="3258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SenateCondensed"/>
              </a:rPr>
              <a:t>Christ</a:t>
            </a:r>
            <a:endParaRPr b="0" lang="en-US" sz="8000" spc="-1" strike="noStrike">
              <a:solidFill>
                <a:srgbClr val="000000"/>
              </a:solidFill>
              <a:latin typeface="SenateCondensed"/>
            </a:endParaRPr>
          </a:p>
        </p:txBody>
      </p:sp>
      <p:pic>
        <p:nvPicPr>
          <p:cNvPr id="212" name="Picture 6" descr="Holy%20Bible"/>
          <p:cNvPicPr/>
          <p:nvPr/>
        </p:nvPicPr>
        <p:blipFill>
          <a:blip r:embed="rId1"/>
          <a:stretch/>
        </p:blipFill>
        <p:spPr>
          <a:xfrm>
            <a:off x="5867280" y="4640400"/>
            <a:ext cx="3186360" cy="213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13" name="Picture 6" descr="so01856_"/>
          <p:cNvPicPr/>
          <p:nvPr/>
        </p:nvPicPr>
        <p:blipFill>
          <a:blip r:embed="rId2"/>
          <a:stretch/>
        </p:blipFill>
        <p:spPr>
          <a:xfrm>
            <a:off x="826920" y="1628640"/>
            <a:ext cx="5113440" cy="44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36960" y="141120"/>
            <a:ext cx="950400" cy="170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Juice ITC"/>
              </a:rPr>
              <a:t>1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79280" y="189000"/>
            <a:ext cx="1440000" cy="18000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250920" y="260280"/>
            <a:ext cx="1296720" cy="1656000"/>
          </a:xfrm>
          <a:prstGeom prst="rect">
            <a:avLst/>
          </a:prstGeom>
          <a:solidFill>
            <a:srgbClr val="72a1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24000" y="333360"/>
            <a:ext cx="115236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468360" y="76320"/>
            <a:ext cx="86364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3f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SenateCondensed"/>
              </a:rPr>
              <a:t>5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835280" y="404640"/>
            <a:ext cx="6913440" cy="496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3f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3366"/>
                </a:solidFill>
                <a:latin typeface="SenateCondensed"/>
              </a:rPr>
              <a:t>Captivity in Babylon and return to Jerusale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835280" y="6400800"/>
            <a:ext cx="4968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3f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Minstrella"/>
              </a:rPr>
              <a:t>The Story of the B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Holy%20Bible"/>
          <p:cNvPicPr/>
          <p:nvPr/>
        </p:nvPicPr>
        <p:blipFill>
          <a:blip r:embed="rId1"/>
          <a:stretch/>
        </p:blipFill>
        <p:spPr>
          <a:xfrm>
            <a:off x="5867280" y="4640400"/>
            <a:ext cx="3186360" cy="213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enateCondensed"/>
              </a:rPr>
              <a:t>Last week</a:t>
            </a:r>
            <a:endParaRPr b="0" lang="en-US" sz="54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47640" y="1484280"/>
            <a:ext cx="7345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07160" indent="-407160">
              <a:lnSpc>
                <a:spcPct val="10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Period of judges (~1400-1000BC)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407160" indent="-407160">
              <a:lnSpc>
                <a:spcPct val="105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Period of kings (~1000-605BC)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407160" indent="-407160">
              <a:lnSpc>
                <a:spcPct val="105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Saul was the first king of Israel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407160" indent="-407160">
              <a:lnSpc>
                <a:spcPct val="105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David, a “man after God’s own heart”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407160" indent="-407160">
              <a:lnSpc>
                <a:spcPct val="105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Solomon, given wisdom, built temple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407160" indent="-407160">
              <a:lnSpc>
                <a:spcPct val="105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Divided kingdom, Israel and Judah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407160" indent="-407160">
              <a:lnSpc>
                <a:spcPct val="105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Prophets, encouragements / warnings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407160" indent="-407160">
              <a:lnSpc>
                <a:spcPct val="105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Taken captive into Babylon (722/605BC)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enateCondensed"/>
              </a:rPr>
              <a:t>Homework</a:t>
            </a:r>
            <a:endParaRPr b="0" lang="en-US" sz="54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640" y="1484280"/>
            <a:ext cx="7921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24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People in Judges chapter 4: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lvl="1" marL="960840" indent="-398520">
              <a:lnSpc>
                <a:spcPct val="10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Jabin (king of Canaan/Hazor)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lvl="1" marL="960840" indent="-398520">
              <a:lnSpc>
                <a:spcPct val="105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Sisera (commander of Jabin’s army)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lvl="1" marL="960840" indent="-398520">
              <a:lnSpc>
                <a:spcPct val="105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Deborah (Prophetess leading/judging Israel)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lvl="1" marL="960840" indent="-398520">
              <a:lnSpc>
                <a:spcPct val="105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Barak (from Kadesh, son of Abinoam)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lvl="1" marL="960840" indent="-398520">
              <a:lnSpc>
                <a:spcPct val="105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10,000 men from Naphtali and Zebulun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lvl="1" marL="960840" indent="-398520">
              <a:lnSpc>
                <a:spcPct val="105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Heber (Kenite, clan friendly with Jabin)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lvl="1" marL="960840" indent="-398520">
              <a:lnSpc>
                <a:spcPct val="105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Jael (wife of Heber)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28600" y="1219320"/>
            <a:ext cx="8686800" cy="45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ffcc99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Years BC    1000   950   900   850   800   750  700  650   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2590920" y="533520"/>
            <a:ext cx="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>
            <a:off x="3505320" y="533520"/>
            <a:ext cx="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4114800" y="533520"/>
            <a:ext cx="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5029200" y="533520"/>
            <a:ext cx="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6172200" y="533520"/>
            <a:ext cx="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>
            <a:off x="2895480" y="1676520"/>
            <a:ext cx="0" cy="838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3429000" y="1676520"/>
            <a:ext cx="0" cy="9144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0"/>
          <p:cNvSpPr/>
          <p:nvPr/>
        </p:nvSpPr>
        <p:spPr>
          <a:xfrm>
            <a:off x="6095880" y="1676520"/>
            <a:ext cx="0" cy="838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>
            <a:off x="4419720" y="1676520"/>
            <a:ext cx="0" cy="7617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5791320" y="1676520"/>
            <a:ext cx="0" cy="838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1523880" y="241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robo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3581280" y="2286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o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2895480" y="2286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im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4419720" y="241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roboam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5867280" y="241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kahi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2133720" y="23623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d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2971800" y="23623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m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4038480" y="23623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1"/>
          <p:cNvSpPr/>
          <p:nvPr/>
        </p:nvSpPr>
        <p:spPr>
          <a:xfrm>
            <a:off x="4724280" y="23623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chari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2"/>
          <p:cNvSpPr/>
          <p:nvPr/>
        </p:nvSpPr>
        <p:spPr>
          <a:xfrm>
            <a:off x="5943600" y="23623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k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>
            <a:off x="2971800" y="838080"/>
            <a:ext cx="0" cy="3812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4"/>
          <p:cNvSpPr/>
          <p:nvPr/>
        </p:nvSpPr>
        <p:spPr>
          <a:xfrm>
            <a:off x="3733920" y="838080"/>
            <a:ext cx="0" cy="3812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4572000" y="838080"/>
            <a:ext cx="0" cy="3812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6"/>
          <p:cNvSpPr/>
          <p:nvPr/>
        </p:nvSpPr>
        <p:spPr>
          <a:xfrm>
            <a:off x="5791320" y="838080"/>
            <a:ext cx="0" cy="3812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>
            <a:off x="6629400" y="838080"/>
            <a:ext cx="0" cy="3812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8"/>
          <p:cNvSpPr/>
          <p:nvPr/>
        </p:nvSpPr>
        <p:spPr>
          <a:xfrm>
            <a:off x="3276720" y="1676520"/>
            <a:ext cx="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9"/>
          <p:cNvSpPr/>
          <p:nvPr/>
        </p:nvSpPr>
        <p:spPr>
          <a:xfrm>
            <a:off x="4038480" y="1676520"/>
            <a:ext cx="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0"/>
          <p:cNvSpPr/>
          <p:nvPr/>
        </p:nvSpPr>
        <p:spPr>
          <a:xfrm>
            <a:off x="5029200" y="1676520"/>
            <a:ext cx="0" cy="495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1"/>
          <p:cNvSpPr/>
          <p:nvPr/>
        </p:nvSpPr>
        <p:spPr>
          <a:xfrm>
            <a:off x="5867280" y="1676520"/>
            <a:ext cx="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2"/>
          <p:cNvSpPr/>
          <p:nvPr/>
        </p:nvSpPr>
        <p:spPr>
          <a:xfrm>
            <a:off x="4343400" y="4952880"/>
            <a:ext cx="0" cy="3812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3"/>
          <p:cNvSpPr/>
          <p:nvPr/>
        </p:nvSpPr>
        <p:spPr>
          <a:xfrm>
            <a:off x="2971800" y="4952880"/>
            <a:ext cx="0" cy="3812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4"/>
          <p:cNvSpPr/>
          <p:nvPr/>
        </p:nvSpPr>
        <p:spPr>
          <a:xfrm>
            <a:off x="2514600" y="5335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as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5"/>
          <p:cNvSpPr/>
          <p:nvPr/>
        </p:nvSpPr>
        <p:spPr>
          <a:xfrm>
            <a:off x="2819520" y="21337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6"/>
          <p:cNvSpPr/>
          <p:nvPr/>
        </p:nvSpPr>
        <p:spPr>
          <a:xfrm>
            <a:off x="3352680" y="2133720"/>
            <a:ext cx="10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hazi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7"/>
          <p:cNvSpPr/>
          <p:nvPr/>
        </p:nvSpPr>
        <p:spPr>
          <a:xfrm>
            <a:off x="4343400" y="21337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ho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8"/>
          <p:cNvSpPr/>
          <p:nvPr/>
        </p:nvSpPr>
        <p:spPr>
          <a:xfrm>
            <a:off x="5334120" y="21337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a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9"/>
          <p:cNvSpPr/>
          <p:nvPr/>
        </p:nvSpPr>
        <p:spPr>
          <a:xfrm>
            <a:off x="3429000" y="5335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h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0"/>
          <p:cNvSpPr/>
          <p:nvPr/>
        </p:nvSpPr>
        <p:spPr>
          <a:xfrm>
            <a:off x="4114800" y="457200"/>
            <a:ext cx="1295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Jehoahaz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1"/>
          <p:cNvSpPr/>
          <p:nvPr/>
        </p:nvSpPr>
        <p:spPr>
          <a:xfrm>
            <a:off x="5181480" y="457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l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2"/>
          <p:cNvSpPr/>
          <p:nvPr/>
        </p:nvSpPr>
        <p:spPr>
          <a:xfrm>
            <a:off x="6248520" y="45720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h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3"/>
          <p:cNvSpPr/>
          <p:nvPr/>
        </p:nvSpPr>
        <p:spPr>
          <a:xfrm>
            <a:off x="228600" y="5334120"/>
            <a:ext cx="8686800" cy="45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ffcc99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Years BC    1000   950   900   850   800   750  700  650   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4"/>
          <p:cNvSpPr/>
          <p:nvPr/>
        </p:nvSpPr>
        <p:spPr>
          <a:xfrm>
            <a:off x="2590920" y="4800600"/>
            <a:ext cx="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5"/>
          <p:cNvSpPr/>
          <p:nvPr/>
        </p:nvSpPr>
        <p:spPr>
          <a:xfrm>
            <a:off x="2743200" y="5791320"/>
            <a:ext cx="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6"/>
          <p:cNvSpPr/>
          <p:nvPr/>
        </p:nvSpPr>
        <p:spPr>
          <a:xfrm>
            <a:off x="4038480" y="4800600"/>
            <a:ext cx="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7"/>
          <p:cNvSpPr/>
          <p:nvPr/>
        </p:nvSpPr>
        <p:spPr>
          <a:xfrm>
            <a:off x="5029200" y="4800600"/>
            <a:ext cx="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8"/>
          <p:cNvSpPr/>
          <p:nvPr/>
        </p:nvSpPr>
        <p:spPr>
          <a:xfrm>
            <a:off x="5334120" y="5791320"/>
            <a:ext cx="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9"/>
          <p:cNvSpPr/>
          <p:nvPr/>
        </p:nvSpPr>
        <p:spPr>
          <a:xfrm>
            <a:off x="6553080" y="4800600"/>
            <a:ext cx="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0"/>
          <p:cNvSpPr/>
          <p:nvPr/>
        </p:nvSpPr>
        <p:spPr>
          <a:xfrm>
            <a:off x="7010280" y="5791320"/>
            <a:ext cx="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1"/>
          <p:cNvSpPr/>
          <p:nvPr/>
        </p:nvSpPr>
        <p:spPr>
          <a:xfrm>
            <a:off x="8229600" y="4800600"/>
            <a:ext cx="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52"/>
          <p:cNvSpPr/>
          <p:nvPr/>
        </p:nvSpPr>
        <p:spPr>
          <a:xfrm>
            <a:off x="8229600" y="5791320"/>
            <a:ext cx="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3"/>
          <p:cNvSpPr/>
          <p:nvPr/>
        </p:nvSpPr>
        <p:spPr>
          <a:xfrm>
            <a:off x="4267080" y="5791320"/>
            <a:ext cx="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4"/>
          <p:cNvSpPr/>
          <p:nvPr/>
        </p:nvSpPr>
        <p:spPr>
          <a:xfrm>
            <a:off x="3733920" y="579132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5"/>
          <p:cNvSpPr/>
          <p:nvPr/>
        </p:nvSpPr>
        <p:spPr>
          <a:xfrm>
            <a:off x="6019920" y="4952880"/>
            <a:ext cx="0" cy="3812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6"/>
          <p:cNvSpPr/>
          <p:nvPr/>
        </p:nvSpPr>
        <p:spPr>
          <a:xfrm>
            <a:off x="6477120" y="579132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7"/>
          <p:cNvSpPr/>
          <p:nvPr/>
        </p:nvSpPr>
        <p:spPr>
          <a:xfrm>
            <a:off x="7696080" y="4952880"/>
            <a:ext cx="0" cy="3812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8"/>
          <p:cNvSpPr/>
          <p:nvPr/>
        </p:nvSpPr>
        <p:spPr>
          <a:xfrm>
            <a:off x="4419720" y="579132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59"/>
          <p:cNvSpPr/>
          <p:nvPr/>
        </p:nvSpPr>
        <p:spPr>
          <a:xfrm>
            <a:off x="8458200" y="4952880"/>
            <a:ext cx="0" cy="3812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60"/>
          <p:cNvSpPr/>
          <p:nvPr/>
        </p:nvSpPr>
        <p:spPr>
          <a:xfrm>
            <a:off x="8534520" y="579132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61"/>
          <p:cNvSpPr/>
          <p:nvPr/>
        </p:nvSpPr>
        <p:spPr>
          <a:xfrm>
            <a:off x="7848720" y="579132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2"/>
          <p:cNvSpPr/>
          <p:nvPr/>
        </p:nvSpPr>
        <p:spPr>
          <a:xfrm>
            <a:off x="1828800" y="4419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hobo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3"/>
          <p:cNvSpPr/>
          <p:nvPr/>
        </p:nvSpPr>
        <p:spPr>
          <a:xfrm>
            <a:off x="3200400" y="4419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ho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4"/>
          <p:cNvSpPr/>
          <p:nvPr/>
        </p:nvSpPr>
        <p:spPr>
          <a:xfrm>
            <a:off x="4419720" y="4419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azi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5"/>
          <p:cNvSpPr/>
          <p:nvPr/>
        </p:nvSpPr>
        <p:spPr>
          <a:xfrm>
            <a:off x="6095880" y="4419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zeki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6"/>
          <p:cNvSpPr/>
          <p:nvPr/>
        </p:nvSpPr>
        <p:spPr>
          <a:xfrm>
            <a:off x="7543800" y="4419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hoah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7"/>
          <p:cNvSpPr/>
          <p:nvPr/>
        </p:nvSpPr>
        <p:spPr>
          <a:xfrm>
            <a:off x="228600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j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8"/>
          <p:cNvSpPr/>
          <p:nvPr/>
        </p:nvSpPr>
        <p:spPr>
          <a:xfrm>
            <a:off x="3733920" y="62485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hazi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9"/>
          <p:cNvSpPr/>
          <p:nvPr/>
        </p:nvSpPr>
        <p:spPr>
          <a:xfrm>
            <a:off x="5029200" y="62485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zzi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0"/>
          <p:cNvSpPr/>
          <p:nvPr/>
        </p:nvSpPr>
        <p:spPr>
          <a:xfrm>
            <a:off x="6324480" y="62485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sse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1"/>
          <p:cNvSpPr/>
          <p:nvPr/>
        </p:nvSpPr>
        <p:spPr>
          <a:xfrm>
            <a:off x="7543800" y="62485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hoiak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2"/>
          <p:cNvSpPr/>
          <p:nvPr/>
        </p:nvSpPr>
        <p:spPr>
          <a:xfrm>
            <a:off x="2653920" y="4648320"/>
            <a:ext cx="60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3"/>
          <p:cNvSpPr/>
          <p:nvPr/>
        </p:nvSpPr>
        <p:spPr>
          <a:xfrm>
            <a:off x="6978600" y="464832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4"/>
          <p:cNvSpPr/>
          <p:nvPr/>
        </p:nvSpPr>
        <p:spPr>
          <a:xfrm>
            <a:off x="2624400" y="6019920"/>
            <a:ext cx="16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hoshap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5"/>
          <p:cNvSpPr/>
          <p:nvPr/>
        </p:nvSpPr>
        <p:spPr>
          <a:xfrm>
            <a:off x="3999600" y="464832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hali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6"/>
          <p:cNvSpPr/>
          <p:nvPr/>
        </p:nvSpPr>
        <p:spPr>
          <a:xfrm>
            <a:off x="5393880" y="4648320"/>
            <a:ext cx="103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oth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7"/>
          <p:cNvSpPr/>
          <p:nvPr/>
        </p:nvSpPr>
        <p:spPr>
          <a:xfrm>
            <a:off x="7759440" y="4648320"/>
            <a:ext cx="14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hoiach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8"/>
          <p:cNvSpPr/>
          <p:nvPr/>
        </p:nvSpPr>
        <p:spPr>
          <a:xfrm>
            <a:off x="7912080" y="601992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deki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9"/>
          <p:cNvSpPr/>
          <p:nvPr/>
        </p:nvSpPr>
        <p:spPr>
          <a:xfrm>
            <a:off x="7153920" y="601992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osi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0"/>
          <p:cNvSpPr/>
          <p:nvPr/>
        </p:nvSpPr>
        <p:spPr>
          <a:xfrm>
            <a:off x="6076440" y="6019920"/>
            <a:ext cx="7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h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1"/>
          <p:cNvSpPr/>
          <p:nvPr/>
        </p:nvSpPr>
        <p:spPr>
          <a:xfrm>
            <a:off x="4249080" y="601992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ho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2"/>
          <p:cNvSpPr/>
          <p:nvPr/>
        </p:nvSpPr>
        <p:spPr>
          <a:xfrm>
            <a:off x="2971800" y="3352680"/>
            <a:ext cx="14479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lijah-Elis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3"/>
          <p:cNvSpPr/>
          <p:nvPr/>
        </p:nvSpPr>
        <p:spPr>
          <a:xfrm>
            <a:off x="4648320" y="3352680"/>
            <a:ext cx="838080" cy="36828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on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4"/>
          <p:cNvSpPr/>
          <p:nvPr/>
        </p:nvSpPr>
        <p:spPr>
          <a:xfrm>
            <a:off x="5257800" y="2743200"/>
            <a:ext cx="7621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5"/>
          <p:cNvSpPr/>
          <p:nvPr/>
        </p:nvSpPr>
        <p:spPr>
          <a:xfrm>
            <a:off x="6019920" y="2819520"/>
            <a:ext cx="9903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6"/>
          <p:cNvSpPr/>
          <p:nvPr/>
        </p:nvSpPr>
        <p:spPr>
          <a:xfrm>
            <a:off x="5867280" y="3581280"/>
            <a:ext cx="8384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c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7"/>
          <p:cNvSpPr/>
          <p:nvPr/>
        </p:nvSpPr>
        <p:spPr>
          <a:xfrm>
            <a:off x="5943600" y="4038480"/>
            <a:ext cx="914400" cy="39888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ai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8"/>
          <p:cNvSpPr/>
          <p:nvPr/>
        </p:nvSpPr>
        <p:spPr>
          <a:xfrm>
            <a:off x="6248520" y="3200400"/>
            <a:ext cx="1066680" cy="36828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ah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9"/>
          <p:cNvSpPr/>
          <p:nvPr/>
        </p:nvSpPr>
        <p:spPr>
          <a:xfrm>
            <a:off x="6934320" y="4038480"/>
            <a:ext cx="1218960" cy="64260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bakk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0"/>
          <p:cNvSpPr/>
          <p:nvPr/>
        </p:nvSpPr>
        <p:spPr>
          <a:xfrm>
            <a:off x="6858000" y="3657600"/>
            <a:ext cx="1295280" cy="64260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ephani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91"/>
          <p:cNvSpPr/>
          <p:nvPr/>
        </p:nvSpPr>
        <p:spPr>
          <a:xfrm>
            <a:off x="7467480" y="3276720"/>
            <a:ext cx="685800" cy="36828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o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2"/>
          <p:cNvSpPr/>
          <p:nvPr/>
        </p:nvSpPr>
        <p:spPr>
          <a:xfrm>
            <a:off x="7924680" y="2819520"/>
            <a:ext cx="1219320" cy="36828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emi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3"/>
          <p:cNvSpPr/>
          <p:nvPr/>
        </p:nvSpPr>
        <p:spPr>
          <a:xfrm>
            <a:off x="8229600" y="3276720"/>
            <a:ext cx="914400" cy="36828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n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4"/>
          <p:cNvSpPr/>
          <p:nvPr/>
        </p:nvSpPr>
        <p:spPr>
          <a:xfrm>
            <a:off x="8153280" y="3733920"/>
            <a:ext cx="990720" cy="36828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zek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95"/>
          <p:cNvSpPr/>
          <p:nvPr/>
        </p:nvSpPr>
        <p:spPr>
          <a:xfrm>
            <a:off x="38160" y="304920"/>
            <a:ext cx="148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Kings of 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6"/>
          <p:cNvSpPr/>
          <p:nvPr/>
        </p:nvSpPr>
        <p:spPr>
          <a:xfrm>
            <a:off x="38160" y="441972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Kings of Jud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7"/>
          <p:cNvSpPr/>
          <p:nvPr/>
        </p:nvSpPr>
        <p:spPr>
          <a:xfrm>
            <a:off x="228600" y="2971800"/>
            <a:ext cx="1523880" cy="825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hets of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5"/>
          <p:cNvSpPr/>
          <p:nvPr/>
        </p:nvSpPr>
        <p:spPr>
          <a:xfrm>
            <a:off x="1403280" y="1557360"/>
            <a:ext cx="7921800" cy="53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84240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2 K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8424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2 Chronic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8424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Ez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8424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Nehemi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8424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Es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8424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Jeremi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84240"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Lamen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842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Other books refer to it in places or indirect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1932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Bible books about the captivity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43280" y="1557000"/>
            <a:ext cx="3889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73160" indent="-3538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8"/>
              </a:buBlip>
              <a:tabLst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Ezekiel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lvl="2" marL="1073160" indent="-3538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9"/>
              </a:buBlip>
              <a:tabLst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Daniel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lvl="2" marL="1073160" indent="-3538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0"/>
              </a:buBlip>
              <a:tabLst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Habakkuk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lvl="2" marL="1073160" indent="-3538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1"/>
              </a:buBlip>
              <a:tabLst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Haggai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lvl="2" marL="1073160" indent="-3538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2"/>
              </a:buBlip>
              <a:tabLst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Zechariah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lvl="2" marL="1073160" indent="-3538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3"/>
              </a:buBlip>
              <a:tabLst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Malachi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captivitybooks"/>
          <p:cNvPicPr/>
          <p:nvPr/>
        </p:nvPicPr>
        <p:blipFill>
          <a:blip r:embed="rId1"/>
          <a:stretch/>
        </p:blipFill>
        <p:spPr>
          <a:xfrm>
            <a:off x="0" y="404640"/>
            <a:ext cx="9142560" cy="59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476000" y="1484280"/>
            <a:ext cx="7443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enateCondensed"/>
              </a:rPr>
              <a:t>In Jerusalem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Jeremiah 626-585 BC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enateCondensed"/>
              </a:rPr>
              <a:t>In Babylon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Ezekiel 593-571 BC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Daniel 605-536 BC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enateCondensed"/>
              </a:rPr>
              <a:t>Returned to Jerusalem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Ezra 458 - ? BC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Nehemiah 445 - ? BC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Zechariah 520 BC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Haggai 520 BC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enateCondensed"/>
              </a:rPr>
              <a:t>In Susa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Esther 475 BC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enateCondensed"/>
              </a:rPr>
              <a:t>Later in Jerusalem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Malachi 430 BC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24000" y="33336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enateCondensed"/>
              </a:rPr>
              <a:t>Much of the Bible concerns the capti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Object 2"/>
          <p:cNvGraphicFramePr/>
          <p:nvPr/>
        </p:nvGraphicFramePr>
        <p:xfrm>
          <a:off x="0" y="-22320"/>
          <a:ext cx="9144000" cy="690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2320"/>
                    <a:ext cx="9144000" cy="690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9280" y="304920"/>
            <a:ext cx="4392720" cy="1179360"/>
          </a:xfrm>
          <a:prstGeom prst="rect">
            <a:avLst/>
          </a:prstGeom>
          <a:solidFill>
            <a:srgbClr val="ccdeac"/>
          </a:solidFill>
          <a:ln w="28440">
            <a:solidFill>
              <a:srgbClr val="008000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SenateCondensed"/>
              </a:rPr>
              <a:t>JERUSALEM OF THE RETURNING EXILES</a:t>
            </a:r>
            <a:endParaRPr b="0" lang="en-US" sz="4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204" name="WordArt 4"/>
          <p:cNvSpPr txBox="1"/>
          <p:nvPr/>
        </p:nvSpPr>
        <p:spPr>
          <a:xfrm rot="1960200">
            <a:off x="0" y="6019560"/>
            <a:ext cx="18288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cap="sq"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</a:rPr>
              <a:t>Hinnom Valley</a:t>
            </a:r>
            <a:endParaRPr b="0" lang="en-US" sz="1200" spc="1" strike="noStrike">
              <a:ln cap="sq"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Arial Black"/>
              <a:ea typeface="Arial Black"/>
            </a:endParaRPr>
          </a:p>
        </p:txBody>
      </p:sp>
      <p:sp>
        <p:nvSpPr>
          <p:cNvPr id="205" name="WordArt 5"/>
          <p:cNvSpPr txBox="1"/>
          <p:nvPr/>
        </p:nvSpPr>
        <p:spPr>
          <a:xfrm rot="19296000">
            <a:off x="4648320" y="5562360"/>
            <a:ext cx="17524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cap="sq"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 Black"/>
              </a:rPr>
              <a:t>Kidron Valley</a:t>
            </a:r>
            <a:endParaRPr b="0" lang="en-US" sz="1200" spc="1" strike="noStrike">
              <a:ln cap="sq"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05:22:34Z</dcterms:created>
  <dc:creator>Paul Bailye</dc:creator>
  <dc:description>paul.bailye@gmail.com</dc:description>
  <dc:language>en-US</dc:language>
  <cp:lastModifiedBy>Rob Hyndman</cp:lastModifiedBy>
  <dcterms:modified xsi:type="dcterms:W3CDTF">2008-05-19T11:21:00Z</dcterms:modified>
  <cp:revision>84</cp:revision>
  <dc:subject/>
  <dc:title>GTKTBB</dc:title>
</cp:coreProperties>
</file>